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04D-A14C-41D2-B0C7-7B3389BF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B8A-A98D-4733-942E-8228632F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B8A-8135-4212-833C-6327E808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1C8-D808-4E4B-AD98-00AB9308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696-E406-4CC9-BC3A-EFC191B9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0B5-13BA-46C0-899B-BC92035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602-7B20-42FA-8437-3AD6F190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3C5-AE29-45D2-A218-F9D0B2D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F6B-78F1-4228-BAA2-66EF34C5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144-7825-480D-B4B6-CAF8E88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776-7A5E-4E24-8AEB-6F5EFB70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49A-5BAB-42F9-AF84-7DD4C57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E087-945D-493B-AE95-FB150016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4:43:39Z</dcterms:created>
  <dc:creator>Grupo Editorial</dc:creator>
  <dc:description/>
  <dc:language>en-US</dc:language>
  <cp:lastModifiedBy>Grupo Editorial</cp:lastModifiedBy>
  <dcterms:modified xsi:type="dcterms:W3CDTF">2001-11-20T14:47:58Z</dcterms:modified>
  <cp:revision>1</cp:revision>
  <dc:subject/>
  <dc:title>Sin título de diapositiva</dc:title>
</cp:coreProperties>
</file>